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E0D-1EC2-4015-A0B7-E45F686E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E2B-7E0A-44AA-899B-2D8186C8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3A0-B5DF-48CD-8491-230FB350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F97-4202-47B8-8A2A-CE57F76C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759-B3F3-49AB-8599-19BD2AAD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F68B-D08E-4427-952C-300A18CF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3C9-7BB3-4109-9E87-45A917AE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712-E8ED-4E53-B4C1-051DD97A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2E1-173C-47E2-9C71-8BF7F510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48E-03C2-492D-8450-3DACE512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6E1-EED8-4064-B8C9-2871DAF7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A038-7F36-4943-A955-BE25FEEE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21F0-E990-46EC-97E0-74E8B893A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4190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върховната цел!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762120"/>
            <a:ext cx="76960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СЕМЕЙНО ЕДИНСТВО-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Някои неща са важни, но други са спешни!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JE50065" descr=""/>
          <p:cNvPicPr/>
          <p:nvPr/>
        </p:nvPicPr>
        <p:blipFill>
          <a:blip r:embed="rId1"/>
          <a:stretch/>
        </p:blipFill>
        <p:spPr>
          <a:xfrm>
            <a:off x="6145200" y="3992400"/>
            <a:ext cx="29988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Ако родителите възпитават децата си по подходящ начин, те самите ще бъдат щастливи, като виждат плодовете в Христоподобния характер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 своите деца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CUC50007" descr=""/>
          <p:cNvPicPr/>
          <p:nvPr/>
        </p:nvPicPr>
        <p:blipFill>
          <a:blip r:embed="rId1"/>
          <a:stretch/>
        </p:blipFill>
        <p:spPr>
          <a:xfrm>
            <a:off x="7205760" y="3465360"/>
            <a:ext cx="193824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е извършват най-висша служба за Бога чрез представяне на света на добре уредени и дисциплинирани семейства, които не само се боят от Бога, но и го прославят чрез влиянието си върху други семейства; и те ще получат своята награда.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CGA00337" descr=""/>
          <p:cNvPicPr/>
          <p:nvPr/>
        </p:nvPicPr>
        <p:blipFill>
          <a:blip r:embed="rId1"/>
          <a:stretch/>
        </p:blipFill>
        <p:spPr>
          <a:xfrm>
            <a:off x="7721640" y="5473800"/>
            <a:ext cx="1422360" cy="1384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44840" y="6010200"/>
            <a:ext cx="14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дв.д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ботата на разумните родители никога няма да бъде оценена от света, но когато съдът започне и книгите се отворят, тяхната работа ще се изяви така, както Бог я вижда и те ще бъдат възнаградени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д човеци и ангели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GA00335" descr=""/>
          <p:cNvPicPr/>
          <p:nvPr/>
        </p:nvPicPr>
        <p:blipFill>
          <a:blip r:embed="rId1"/>
          <a:stretch/>
        </p:blipFill>
        <p:spPr>
          <a:xfrm>
            <a:off x="6616800" y="4673520"/>
            <a:ext cx="2527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1237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Ще се види , че едно дете, което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е било доведено в пътя на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стината, е било светлина в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вета. Коствало е сълзи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безпокойства и безсънни нощи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 да бъде изграден неговия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арактер, но работата е била свършена разумно и родителите чуват: “Добре дошли!” от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стата на Учителя.” 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8240" y="594360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дв. д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CGC00093" descr=""/>
          <p:cNvPicPr/>
          <p:nvPr/>
        </p:nvPicPr>
        <p:blipFill>
          <a:blip r:embed="rId1"/>
          <a:stretch/>
        </p:blipFill>
        <p:spPr>
          <a:xfrm>
            <a:off x="7188120" y="4952880"/>
            <a:ext cx="19558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14400" y="0"/>
            <a:ext cx="7543800" cy="632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Възпитавай детето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4" name="CUT00001" descr=""/>
          <p:cNvPicPr/>
          <p:nvPr/>
        </p:nvPicPr>
        <p:blipFill>
          <a:blip r:embed="rId1"/>
          <a:stretch/>
        </p:blipFill>
        <p:spPr>
          <a:xfrm>
            <a:off x="6019920" y="3733920"/>
            <a:ext cx="2770200" cy="2770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44800" y="64008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женка Чакър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Предизвикателствата: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глеждането на деца изисква усилия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глеждането на деца доставя удоволствие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JE00109" descr=""/>
          <p:cNvPicPr/>
          <p:nvPr/>
        </p:nvPicPr>
        <p:blipFill>
          <a:blip r:embed="rId1"/>
          <a:stretch/>
        </p:blipFill>
        <p:spPr>
          <a:xfrm>
            <a:off x="6451560" y="4368960"/>
            <a:ext cx="269244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895120"/>
            <a:ext cx="9677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аправете дома си приятно място, така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че вашите деца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да се връщат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 радост в него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JE00300" descr=""/>
          <p:cNvPicPr/>
          <p:nvPr/>
        </p:nvPicPr>
        <p:blipFill>
          <a:blip r:embed="rId1"/>
          <a:stretch/>
        </p:blipFill>
        <p:spPr>
          <a:xfrm>
            <a:off x="6548400" y="3747960"/>
            <a:ext cx="25956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Изградете семейни традиции: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32004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 съдействат за единството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buClr>
                <a:srgbClr val="000000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 доставят удоволстви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AQJ50014" descr=""/>
          <p:cNvPicPr/>
          <p:nvPr/>
        </p:nvPicPr>
        <p:blipFill>
          <a:blip r:embed="rId1"/>
          <a:stretch/>
        </p:blipFill>
        <p:spPr>
          <a:xfrm>
            <a:off x="5867280" y="2779560"/>
            <a:ext cx="327672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Преосмислете вашата ценностна система!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IZ00178" descr=""/>
          <p:cNvPicPr/>
          <p:nvPr/>
        </p:nvPicPr>
        <p:blipFill>
          <a:blip r:embed="rId1"/>
          <a:stretch/>
        </p:blipFill>
        <p:spPr>
          <a:xfrm>
            <a:off x="5724360" y="3200400"/>
            <a:ext cx="34196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526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Намалете крачката!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IY00008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50200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Поставете преоритетите!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IY00149" descr=""/>
          <p:cNvPicPr/>
          <p:nvPr/>
        </p:nvPicPr>
        <p:blipFill>
          <a:blip r:embed="rId1"/>
          <a:stretch/>
        </p:blipFill>
        <p:spPr>
          <a:xfrm>
            <a:off x="380880" y="0"/>
            <a:ext cx="33451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Вашето дете се нуждае от вас!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JE50098" descr=""/>
          <p:cNvPicPr/>
          <p:nvPr/>
        </p:nvPicPr>
        <p:blipFill>
          <a:blip r:embed="rId1"/>
          <a:stretch/>
        </p:blipFill>
        <p:spPr>
          <a:xfrm>
            <a:off x="2971800" y="3713040"/>
            <a:ext cx="35100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Вашето дете се нуждае от вашето време!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JE50057" descr=""/>
          <p:cNvPicPr/>
          <p:nvPr/>
        </p:nvPicPr>
        <p:blipFill>
          <a:blip r:embed="rId1"/>
          <a:stretch/>
        </p:blipFill>
        <p:spPr>
          <a:xfrm>
            <a:off x="5734080" y="3908520"/>
            <a:ext cx="34099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02:59:22Z</dcterms:created>
  <dc:creator>Pacific Health</dc:creator>
  <dc:description/>
  <dc:language>en-US</dc:language>
  <cp:lastModifiedBy>Pacific Health</cp:lastModifiedBy>
  <dcterms:modified xsi:type="dcterms:W3CDTF">1998-12-09T09:21:49Z</dcterms:modified>
  <cp:revision>8</cp:revision>
  <dc:subject/>
  <dc:title>върховната цел!</dc:title>
</cp:coreProperties>
</file>